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E925-9A12-4AA2-9A54-5297A35D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7709-7495-48DD-A2B0-AF382696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0117-7220-4081-9B96-21344073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3584-395E-400A-9D09-A7AA3E78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C4F1-6A49-427A-BC09-64BDBE34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1777-90F4-4334-A936-4DFF6E96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A93B-4CF5-454F-8E85-A2D34A91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32C8-154E-4DEE-823D-02C29D9E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D604-D320-44DB-B11A-546B5848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F7DE-A505-49EE-B667-AC31E48C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780E-0314-4840-BF8A-82D00705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9A52-A84A-4700-AE3C-3110A8F7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E619-70C2-4EB4-8AA8-1E2A9610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7A0D-3682-46E0-982B-D1B14AF5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D278-DB0B-4980-8CF6-6ECDE33F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1AEF-6971-4763-A8B5-BD15183E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83A8-933B-4382-BED0-6D6FA127D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D8CF-ED24-4197-BF06-5DE5875C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22AE-8EFC-444E-AC24-B44231B1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1DE7-9BA8-4300-A833-2A2DD325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6F4D-93A3-4570-8114-FDEEAF224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7AC8-1879-4656-B74E-E3EEE239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0EB8-18DA-432D-951D-7E850636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8537-C492-4B3D-A6C7-27856A71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5747-8204-4F92-BBD4-A3AD6CE1386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5950-1C20-4D3E-8366-30F0847AC26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5th%20Grader%20Shor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10.xml"/><Relationship Id="rId9" Type="http://schemas.openxmlformats.org/officeDocument/2006/relationships/slide" Target="slide10.xml"/><Relationship Id="rId10" Type="http://schemas.openxmlformats.org/officeDocument/2006/relationships/slide" Target="slide10.xml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slide" Target="slide13.xml"/><Relationship Id="rId14" Type="http://schemas.openxmlformats.org/officeDocument/2006/relationships/slide" Target="slide16.xml"/><Relationship Id="rId15" Type="http://schemas.openxmlformats.org/officeDocument/2006/relationships/slide" Target="slide16.xml"/><Relationship Id="rId16" Type="http://schemas.openxmlformats.org/officeDocument/2006/relationships/slide" Target="slide16.xml"/><Relationship Id="rId17" Type="http://schemas.openxmlformats.org/officeDocument/2006/relationships/slide" Target="slide19.xml"/><Relationship Id="rId18" Type="http://schemas.openxmlformats.org/officeDocument/2006/relationships/slide" Target="slide19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2.xml"/><Relationship Id="rId22" Type="http://schemas.openxmlformats.org/officeDocument/2006/relationships/slide" Target="slide25.xml"/><Relationship Id="rId23" Type="http://schemas.openxmlformats.org/officeDocument/2006/relationships/slide" Target="slide25.xml"/><Relationship Id="rId24" Type="http://schemas.openxmlformats.org/officeDocument/2006/relationships/slide" Target="slide25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28.xml"/><Relationship Id="rId28" Type="http://schemas.openxmlformats.org/officeDocument/2006/relationships/slide" Target="slide31.xml"/><Relationship Id="rId29" Type="http://schemas.openxmlformats.org/officeDocument/2006/relationships/slide" Target="slide31.xml"/><Relationship Id="rId30" Type="http://schemas.openxmlformats.org/officeDocument/2006/relationships/slide" Target="slide31.xml"/><Relationship Id="rId31" Type="http://schemas.openxmlformats.org/officeDocument/2006/relationships/slide" Target="slide3.xml"/><Relationship Id="rId32" Type="http://schemas.openxmlformats.org/officeDocument/2006/relationships/slide" Target="slide3.xml"/><Relationship Id="rId33" Type="http://schemas.openxmlformats.org/officeDocument/2006/relationships/slide" Target="slide3.xml"/><Relationship Id="rId34" Type="http://schemas.openxmlformats.org/officeDocument/2006/relationships/slide" Target="slide3.xml"/><Relationship Id="rId35" Type="http://schemas.openxmlformats.org/officeDocument/2006/relationships/slide" Target="slide3.xml"/><Relationship Id="rId36" Type="http://schemas.openxmlformats.org/officeDocument/2006/relationships/slide" Target="slide3.xml"/><Relationship Id="rId37" Type="http://schemas.openxmlformats.org/officeDocument/2006/relationships/slide" Target="slide3.xml"/><Relationship Id="rId38" Type="http://schemas.openxmlformats.org/officeDocument/2006/relationships/slide" Target="slide3.xml"/><Relationship Id="rId39" Type="http://schemas.openxmlformats.org/officeDocument/2006/relationships/slide" Target="slide3.xml"/><Relationship Id="rId40" Type="http://schemas.openxmlformats.org/officeDocument/2006/relationships/slide" Target="slide3.xml"/><Relationship Id="rId41" Type="http://schemas.openxmlformats.org/officeDocument/2006/relationships/slide" Target="slide3.xml"/><Relationship Id="rId4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648320" cy="3603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"/>
          <p:cNvSpPr txBox="1"/>
          <p:nvPr/>
        </p:nvSpPr>
        <p:spPr>
          <a:xfrm rot="20578200">
            <a:off x="761760" y="4191120"/>
            <a:ext cx="754380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Your Classroom Edition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5th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4th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4th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3rd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3rd Grade Topic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2nd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2" action="ppaction://hlinksldjump"/>
              </a:rPr>
              <a:t>2nd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4" action="ppaction://hlinksldjump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5" action="ppaction://hlinksldjump"/>
              </a:rPr>
              <a:t>1st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6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7" action="ppaction://hlinksldjump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8" action="ppaction://hlinksldjump"/>
              </a:rPr>
              <a:t>1st Grade Topic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9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0" action="ppaction://hlinksldjump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1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2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3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4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5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6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7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8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9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40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1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ade Level Topic 1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Stephen Torrance User</cp:lastModifiedBy>
  <dcterms:modified xsi:type="dcterms:W3CDTF">2009-03-17T01:05:55Z</dcterms:modified>
  <cp:revision>20</cp:revision>
  <dc:subject/>
  <dc:title>Are You Smarter  Than a 5th Grader?</dc:title>
</cp:coreProperties>
</file>